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215-63BC-4986-AADA-2C6E352E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EE6-A5D3-4CE7-9BBA-234E7444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9C6-766A-4E2E-8EF9-4F53E6B6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2DE-EA2E-4D88-B82C-F089B208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3F77-6463-47FF-9C75-3AD201ED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26E2-B52A-4F43-AC4D-1F63CA24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F2A3-F8A4-41F4-BE65-95BD90AF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0DEB-BEA2-4B99-9370-4E69B354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348F-59CA-435A-B386-31BADF2C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B560-9C2B-4999-8573-EEDDE910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6407-7858-4DA4-A589-53632A8E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0EE-E922-4F28-BCCF-D36BD03C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EE79-AA11-4DB9-B8A9-14CC178C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48FA-4205-411E-8AD5-D7394C5C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B7FF-6095-4A13-ADFE-3F8FE88A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7342-3028-4AE3-A09B-2889D415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92C4-EA2C-4E26-8DF3-C0169D59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AA5-16AE-4A78-9041-FAD175AC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68E-4EDE-4C06-8AC9-1B63B2DD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A0E-E386-4B96-BE0E-4EABD9D4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2A2-89FC-41C7-8262-97AB3923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26B-E10C-4E9A-A02A-0D562BD7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E6B7-08E7-4D07-A564-A844CEF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100-6D9E-4F7E-9423-7A5FDF3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9125-6B75-47D6-9A6C-BC904783A467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711A-90A6-4351-994D-91E42A5D5B30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cal Equation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solv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solve an equation involving radicals signs, you must get the radical sign alone on one (or both) side(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radical sign(s) is alone, square or cube both sides in order to clear the radical 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solve like a normal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2057400"/>
                <a:ext cx="2581560" cy="36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2290680" y="2057400"/>
                <a:ext cx="3792600" cy="36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e/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606680" y="2019240"/>
                <a:ext cx="516096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/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e>
                      <m:e/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8:40:54Z</dcterms:created>
  <dc:creator>Parkland High School</dc:creator>
  <dc:description/>
  <dc:language>en-US</dc:language>
  <cp:lastModifiedBy>test</cp:lastModifiedBy>
  <dcterms:modified xsi:type="dcterms:W3CDTF">2015-05-12T17:07:40Z</dcterms:modified>
  <cp:revision>4</cp:revision>
  <dc:subject/>
  <dc:title>Section 7.3</dc:title>
</cp:coreProperties>
</file>